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D6D-AE43-4902-955D-B88312F8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A67-E1AE-4490-A017-3BD80212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E9E-2C8D-4364-ACFB-8964C800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569-66E5-4CCA-B9CB-94A0D571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B882-31AB-465C-995A-963373C0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8394-E6F5-494C-B019-70AD694D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A028-D650-493A-B794-CD691A0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0159-CF44-4CD7-9C9A-A554635F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D8CE-2698-4835-B5C6-8DB32AE0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9AB4-2F1F-4C7C-B168-51DE9576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7582-552B-4065-AD52-17CDD60C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EC9-230D-4BAE-B750-2C8150BF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0363-366C-4F15-BC6B-04BEEFAD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F4E0-DEA8-4142-8115-8C9D5A3C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39B0-6392-4F9F-A851-897DB024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28EC-7AF4-492F-88C3-F2492B9B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A8AC-3D1C-44D2-B91F-F0F7B0C2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315-2FEE-4EC6-83A0-B44C16CA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4C1-8C57-45D2-948A-C69D293B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1F3-6BEA-4DB4-870D-00A884AE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272-A7DB-4AC1-8E6C-EA6D969B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AC1-6F8D-4C95-B337-3C6EBEB0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4DF-B075-446D-8F5D-33CBA5E6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7E9-65F9-4A29-A48D-3EC5EEC4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F00C-C348-40D7-B58B-B79B1EDA83A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2EFC-B173-4FE8-8CAD-A2EDEBBD7F7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别董大2">
            <a:hlinkClick r:id="rId1" action="ppaction://hlinksldjump"/>
          </p:cNvPr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3852720" y="0"/>
            <a:ext cx="428004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送元二使安西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200442192926275"/>
          <p:cNvPicPr/>
          <p:nvPr/>
        </p:nvPicPr>
        <p:blipFill>
          <a:blip r:embed="rId2"/>
          <a:stretch/>
        </p:blipFill>
        <p:spPr>
          <a:xfrm>
            <a:off x="1143000" y="990720"/>
            <a:ext cx="7238880" cy="4876560"/>
          </a:xfrm>
          <a:prstGeom prst="rect">
            <a:avLst/>
          </a:prstGeom>
          <a:ln w="0">
            <a:noFill/>
          </a:ln>
        </p:spPr>
      </p:pic>
      <p:sp>
        <p:nvSpPr>
          <p:cNvPr id="111" name="Freeform 6"/>
          <p:cNvSpPr/>
          <p:nvPr/>
        </p:nvSpPr>
        <p:spPr>
          <a:xfrm>
            <a:off x="2209680" y="2133720"/>
            <a:ext cx="3108600" cy="1027080"/>
          </a:xfrm>
          <a:custGeom>
            <a:avLst/>
            <a:gdLst/>
            <a:ahLst/>
            <a:rect l="l" t="t" r="r" b="b"/>
            <a:pathLst>
              <a:path w="1958" h="647">
                <a:moveTo>
                  <a:pt x="1958" y="647"/>
                </a:moveTo>
                <a:lnTo>
                  <a:pt x="1852" y="603"/>
                </a:lnTo>
                <a:lnTo>
                  <a:pt x="1781" y="594"/>
                </a:lnTo>
                <a:lnTo>
                  <a:pt x="1666" y="585"/>
                </a:lnTo>
                <a:lnTo>
                  <a:pt x="1579" y="539"/>
                </a:lnTo>
                <a:lnTo>
                  <a:pt x="1488" y="494"/>
                </a:lnTo>
                <a:lnTo>
                  <a:pt x="1391" y="408"/>
                </a:lnTo>
                <a:lnTo>
                  <a:pt x="1311" y="346"/>
                </a:lnTo>
                <a:lnTo>
                  <a:pt x="1222" y="310"/>
                </a:lnTo>
                <a:lnTo>
                  <a:pt x="1081" y="310"/>
                </a:lnTo>
                <a:lnTo>
                  <a:pt x="974" y="319"/>
                </a:lnTo>
                <a:lnTo>
                  <a:pt x="886" y="301"/>
                </a:lnTo>
                <a:lnTo>
                  <a:pt x="833" y="186"/>
                </a:lnTo>
                <a:lnTo>
                  <a:pt x="717" y="80"/>
                </a:lnTo>
                <a:lnTo>
                  <a:pt x="619" y="110"/>
                </a:lnTo>
                <a:lnTo>
                  <a:pt x="540" y="124"/>
                </a:lnTo>
                <a:lnTo>
                  <a:pt x="469" y="98"/>
                </a:lnTo>
                <a:lnTo>
                  <a:pt x="354" y="62"/>
                </a:lnTo>
                <a:lnTo>
                  <a:pt x="265" y="36"/>
                </a:lnTo>
                <a:lnTo>
                  <a:pt x="177" y="18"/>
                </a:lnTo>
                <a:lnTo>
                  <a:pt x="106" y="0"/>
                </a:lnTo>
                <a:lnTo>
                  <a:pt x="35" y="27"/>
                </a:lnTo>
                <a:lnTo>
                  <a:pt x="0" y="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410080" y="2971800"/>
            <a:ext cx="30492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渭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218120" y="2971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阳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5410080" y="3200400"/>
            <a:ext cx="76320" cy="763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4572000" y="2895480"/>
            <a:ext cx="76320" cy="763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2133720" y="2209680"/>
            <a:ext cx="75960" cy="763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2">
            <a:hlinkClick r:id="rId3" action="ppaction://hlinksldjump"/>
          </p:cNvPr>
          <p:cNvSpPr/>
          <p:nvPr/>
        </p:nvSpPr>
        <p:spPr>
          <a:xfrm>
            <a:off x="1933560" y="2286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安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13"/>
          <p:cNvSpPr/>
          <p:nvPr/>
        </p:nvSpPr>
        <p:spPr>
          <a:xfrm>
            <a:off x="5326200" y="3149640"/>
            <a:ext cx="83880" cy="52200"/>
          </a:xfrm>
          <a:custGeom>
            <a:avLst/>
            <a:gdLst/>
            <a:ahLst/>
            <a:rect l="l" t="t" r="r" b="b"/>
            <a:pathLst>
              <a:path w="53" h="33">
                <a:moveTo>
                  <a:pt x="0" y="0"/>
                </a:moveTo>
                <a:lnTo>
                  <a:pt x="53" y="3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476360" y="765000"/>
            <a:ext cx="6337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2221"/>
                </a:solidFill>
                <a:latin typeface="黑体"/>
                <a:ea typeface="黑体"/>
              </a:rPr>
              <a:t>送元二使安西</a:t>
            </a:r>
            <a:br>
              <a:rPr sz="5400"/>
            </a:br>
            <a:r>
              <a:rPr b="0" lang="zh-CN" sz="54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r>
              <a:rPr b="0" lang="en-US" sz="4000" spc="-1" strike="noStrike">
                <a:solidFill>
                  <a:srgbClr val="002221"/>
                </a:solidFill>
                <a:latin typeface="黑体"/>
                <a:ea typeface="黑体"/>
              </a:rPr>
              <a:t>[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唐</a:t>
            </a:r>
            <a:r>
              <a:rPr b="0" lang="en-US" sz="4000" spc="-1" strike="noStrike">
                <a:solidFill>
                  <a:srgbClr val="002221"/>
                </a:solidFill>
                <a:latin typeface="Arial"/>
              </a:rPr>
              <a:t>] 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王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渭 城 朝 雨 浥 轻 尘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客 舍 青 青 柳 色 新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劝 君 更 尽 一 杯 酒，</a:t>
            </a:r>
            <a:br>
              <a:rPr sz="4000"/>
            </a:b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西 出 阳 关 无 故 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1295280" y="1371600"/>
            <a:ext cx="49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384480"/>
            <a:ext cx="9220320" cy="764280"/>
          </a:xfrm>
          <a:prstGeom prst="rect">
            <a:avLst/>
          </a:prstGeom>
          <a:noFill/>
          <a:ln w="9360">
            <a:solidFill>
              <a:srgbClr val="007a77"/>
            </a:solidFill>
            <a:prstDash val="dash"/>
            <a:miter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渭城朝雨浥轻尘，客舍青青柳色新。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9400" y="1370160"/>
            <a:ext cx="54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渭城：秦置咸阳县，汉代改称渭城县，唐时属京兆府咸阳县辖区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在今陕西咸阳市东北，渭水北岸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23440" y="251352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浥：（</a:t>
            </a:r>
            <a:r>
              <a:rPr b="0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y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ì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：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湿润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895480" y="2514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客舍：旅店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6834240" y="2513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柳色：即指初春嫩柳的颜色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1963080" y="3503520"/>
            <a:ext cx="4874760" cy="2104920"/>
          </a:xfrm>
          <a:prstGeom prst="rect">
            <a:avLst/>
          </a:prstGeom>
          <a:noFill/>
          <a:ln cap="rnd" w="9360">
            <a:solidFill>
              <a:srgbClr val="007a77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清晨的细雨打湿了渭城的浮尘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青砖绿瓦的旅店和周围的柳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都显得格外清新明朗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7335720" y="6156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渭水河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勋.mp3" descr=""/>
          <p:cNvPicPr/>
          <p:nvPr/>
        </p:nvPicPr>
        <p:blipFill>
          <a:blip r:embed="rId2"/>
          <a:stretch/>
        </p:blipFill>
        <p:spPr>
          <a:xfrm>
            <a:off x="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解答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前两句写离别时的景色，地点是（ </a:t>
            </a:r>
            <a:r>
              <a:rPr b="0" lang="zh-CN" sz="3200" spc="-1" strike="noStrike">
                <a:solidFill>
                  <a:srgbClr val="ee220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），季节是（ </a:t>
            </a:r>
            <a:r>
              <a:rPr b="0" lang="zh-CN" sz="3200" spc="-1" strike="noStrike">
                <a:solidFill>
                  <a:srgbClr val="ee220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），从哪里可以看出？“柳”与“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(      </a:t>
            </a:r>
            <a:r>
              <a:rPr b="0" lang="zh-CN" sz="3200" spc="-1" strike="noStrike">
                <a:solidFill>
                  <a:srgbClr val="ee220c"/>
                </a:solidFill>
                <a:latin typeface="Arial"/>
              </a:rPr>
              <a:t>留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)”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谐音，暗含（ </a:t>
            </a:r>
            <a:r>
              <a:rPr b="0" lang="zh-CN" sz="3200" spc="-1" strike="noStrike">
                <a:solidFill>
                  <a:srgbClr val="ee220c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）之意，你感觉这景色如何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735240" y="1917720"/>
            <a:ext cx="91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835280" y="2349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春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93236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送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110356042294"/>
          <p:cNvPicPr/>
          <p:nvPr/>
        </p:nvPicPr>
        <p:blipFill>
          <a:blip r:embed="rId1"/>
          <a:stretch/>
        </p:blipFill>
        <p:spPr>
          <a:xfrm>
            <a:off x="1440" y="1440"/>
            <a:ext cx="5435640" cy="6885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5435640" y="47628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渭城朝雨浥轻尘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客舍青青柳色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580000" y="3789360"/>
            <a:ext cx="360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这句诗点明了送别的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.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156360" y="4941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220c"/>
                </a:solidFill>
                <a:latin typeface="Times New Roman"/>
              </a:rPr>
              <a:t>地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308720" y="49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220c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65308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220c"/>
                </a:solidFill>
                <a:latin typeface="Times New Roman"/>
              </a:rPr>
              <a:t>环境气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380880"/>
            <a:ext cx="9220320" cy="764280"/>
          </a:xfrm>
          <a:prstGeom prst="rect">
            <a:avLst/>
          </a:prstGeom>
          <a:noFill/>
          <a:ln w="9360">
            <a:solidFill>
              <a:srgbClr val="007a7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劝君更尽一杯酒，西出阳关无故人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892440" y="144684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君：指元二。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887120" y="3656160"/>
            <a:ext cx="4874760" cy="2104920"/>
          </a:xfrm>
          <a:prstGeom prst="rect">
            <a:avLst/>
          </a:prstGeom>
          <a:noFill/>
          <a:ln cap="rnd" w="9360">
            <a:solidFill>
              <a:srgbClr val="007a77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请你再饮一杯离别的酒吧！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你西出阳关之后，在那里就见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到老朋友了。</a:t>
            </a:r>
            <a:r>
              <a:rPr b="1" lang="zh-CN" sz="2400" spc="-1" strike="noStrike">
                <a:solidFill>
                  <a:srgbClr val="dc59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2860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更：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05320" y="1447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故人：老朋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095880" y="1447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更尽：再饮完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57200" y="2209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阳关：汉朝设置的边关名，故址在今甘肃省敦煌县西南，古代跟玉门关同是出塞必经的关口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元和郡县志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云，因在玉门之南，故称阳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2"/>
          <p:cNvSpPr/>
          <p:nvPr/>
        </p:nvSpPr>
        <p:spPr>
          <a:xfrm>
            <a:off x="76320" y="609480"/>
            <a:ext cx="9067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清晨的细雨打湿了渭城的浮尘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青砖绿瓦的旅店和周围的柳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都显得格外清新明朗。请你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饮一杯离别的酒吧；因为你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出阳关之后，在那里就见不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老朋友了。</a:t>
            </a:r>
            <a:r>
              <a:rPr b="1" lang="zh-CN" sz="4800" spc="-1" strike="noStrike">
                <a:solidFill>
                  <a:srgbClr val="dc59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别董大2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5364000" y="620640"/>
            <a:ext cx="344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劝君更进一杯酒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西出阳关无故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645160" y="4057560"/>
            <a:ext cx="287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这两行诗由写景转入送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更”字表明酒已劝了多次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敬了多杯，这依依惜别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情虽只字未提，但都见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言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7000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79280" y="476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2004511155336581"/>
          <p:cNvPicPr/>
          <p:nvPr/>
        </p:nvPicPr>
        <p:blipFill>
          <a:blip r:embed="rId1"/>
          <a:stretch/>
        </p:blipFill>
        <p:spPr>
          <a:xfrm>
            <a:off x="7020000" y="1413000"/>
            <a:ext cx="1857240" cy="3816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324000" y="54936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ee220c"/>
                </a:solidFill>
                <a:latin typeface="Arial"/>
              </a:rPr>
              <a:t>王维是盛唐山水田园诗代表作家，字摩诘，蒲州（今山西永济县）人。</a:t>
            </a:r>
            <a:r>
              <a:rPr b="0" lang="zh-CN" sz="2400" spc="-1" strike="noStrike">
                <a:solidFill>
                  <a:srgbClr val="a0108f"/>
                </a:solidFill>
                <a:latin typeface="Arial"/>
              </a:rPr>
              <a:t>他是一个早熟的作家，九岁就负有才名，年十九，赴京城试，举解头（即第一名举子），二十一岁成进士。后官至尚书右丞。</a:t>
            </a:r>
            <a:br>
              <a:rPr sz="2400"/>
            </a:br>
            <a:r>
              <a:rPr b="0" lang="zh-CN" sz="2400" spc="-1" strike="noStrike">
                <a:solidFill>
                  <a:srgbClr val="a0108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ee220c"/>
                </a:solidFill>
                <a:latin typeface="Arial"/>
              </a:rPr>
              <a:t>王维在诗歌上的成就是多方面的，无论边塞、山水诗，无论律诗、绝句等都有流传人口的佳篇。王维又是一位著名的绘画大师。苏轼说他：「诗中有画，画中有诗」。</a:t>
            </a:r>
            <a:r>
              <a:rPr b="0" lang="zh-CN" sz="2400" spc="-1" strike="noStrike">
                <a:solidFill>
                  <a:srgbClr val="a0108f"/>
                </a:solidFill>
                <a:latin typeface="Arial"/>
              </a:rPr>
              <a:t>王维确实在描写自然景物方面，有其独到的造诣。无论是名山大川的壮丽宏伟，或者是边疆关塞的壮阔荒寒，小桥流水的恬静，都能准确、精炼地塑造出完美无比的鲜活形象，意境高远，诗情与画意完全融合成为一个整体，著有</a:t>
            </a:r>
            <a:r>
              <a:rPr b="0" lang="en-US" sz="2400" spc="-1" strike="noStrike">
                <a:solidFill>
                  <a:srgbClr val="a0108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a0108f"/>
                </a:solidFill>
                <a:latin typeface="Arial"/>
              </a:rPr>
              <a:t>王右丞集</a:t>
            </a:r>
            <a:r>
              <a:rPr b="0" lang="en-US" sz="2400" spc="-1" strike="noStrike">
                <a:solidFill>
                  <a:srgbClr val="a0108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40788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大漠茫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98840" y="3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荒凉的戈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07880" y="15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安西故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3048120" cy="3505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阳关故址--修正"/>
          <p:cNvPicPr/>
          <p:nvPr/>
        </p:nvPicPr>
        <p:blipFill>
          <a:blip r:embed="rId2"/>
          <a:stretch/>
        </p:blipFill>
        <p:spPr>
          <a:xfrm>
            <a:off x="3048120" y="0"/>
            <a:ext cx="304776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4006233343523385278"/>
          <p:cNvPicPr/>
          <p:nvPr/>
        </p:nvPicPr>
        <p:blipFill>
          <a:blip r:embed="rId3"/>
          <a:stretch/>
        </p:blipFill>
        <p:spPr>
          <a:xfrm>
            <a:off x="0" y="3505320"/>
            <a:ext cx="3048120" cy="3504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安西古城2"/>
          <p:cNvPicPr/>
          <p:nvPr/>
        </p:nvPicPr>
        <p:blipFill>
          <a:blip r:embed="rId4"/>
          <a:stretch/>
        </p:blipFill>
        <p:spPr>
          <a:xfrm>
            <a:off x="6081840" y="3505320"/>
            <a:ext cx="306216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3"/>
          <p:cNvPicPr/>
          <p:nvPr/>
        </p:nvPicPr>
        <p:blipFill>
          <a:blip r:embed="rId5"/>
          <a:stretch/>
        </p:blipFill>
        <p:spPr>
          <a:xfrm>
            <a:off x="3048120" y="3505320"/>
            <a:ext cx="3047760" cy="3352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云山浩渺1"/>
          <p:cNvPicPr/>
          <p:nvPr/>
        </p:nvPicPr>
        <p:blipFill>
          <a:blip r:embed="rId6"/>
          <a:stretch/>
        </p:blipFill>
        <p:spPr>
          <a:xfrm>
            <a:off x="6095880" y="152280"/>
            <a:ext cx="304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862000" y="1014480"/>
            <a:ext cx="262476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22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ee220c"/>
                </a:solidFill>
                <a:latin typeface="黑体"/>
                <a:ea typeface="黑体"/>
              </a:rPr>
              <a:t>．元二：姓元，排行第二，作者的朋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22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使：出使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朝雨：早晨的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浥（</a:t>
            </a: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）：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ee220c"/>
                </a:solidFill>
                <a:latin typeface="黑体"/>
                <a:ea typeface="黑体"/>
              </a:rPr>
              <a:t>．客舍：旅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220c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ee220c"/>
                </a:solidFill>
                <a:latin typeface="黑体"/>
                <a:ea typeface="黑体"/>
              </a:rPr>
              <a:t>更尽：再饮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556000" y="0"/>
            <a:ext cx="2808000" cy="1174680"/>
          </a:xfrm>
          <a:prstGeom prst="ellipse">
            <a:avLst/>
          </a:prstGeom>
          <a:solidFill>
            <a:srgbClr val="e6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384920" y="1844640"/>
            <a:ext cx="6048360" cy="3440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ecf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渭城清晨一场小雨，湿润了路上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尘埃，旅店旁的棵棵绿柳，更加翠色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滴。朋友，请再喝尽这杯美酒吧，等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西行出了阳关之后，就再也没有一个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情深厚的老友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1187280" y="189000"/>
            <a:ext cx="4537080" cy="936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诗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290600" y="2565360"/>
            <a:ext cx="644472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2221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送元二使安西</a:t>
            </a:r>
            <a:r>
              <a:rPr b="1" lang="en-US" sz="3600" spc="-1" strike="noStrike">
                <a:solidFill>
                  <a:srgbClr val="002221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通过写细雨中设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为朋友饯行时劝酒的情景，含蓄地表达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诗人对朋友的恋恋不舍之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332000" y="404640"/>
            <a:ext cx="4464000" cy="1346400"/>
          </a:xfrm>
          <a:prstGeom prst="ellipse">
            <a:avLst/>
          </a:prstGeom>
          <a:solidFill>
            <a:srgbClr val="e6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方正姚体"/>
              </a:rPr>
              <a:t>中心思想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95280" y="83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         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这是一首有名的送别诗。前两句写了送别的环境，后两句写了送别场面中的一个情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     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一个春天的早晨，阵阵细雨润湿着飞飘着的轻尘，在一片青色之中，客舍旁边的柳树显得越发嫩绿，新鲜。可是，老朋友就要离开这里到边远的安西去了。送别饯酒，干了一杯又一杯，诗人提议，再干一杯，因为“西出阳关”之后，不会同老朋友坐在一起饮酒畅叙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拓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209680" y="304920"/>
            <a:ext cx="63248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山中送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唐）王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山中相送罢，日暮掩柴扉。春草明年绿，王孙归不归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山中送别--配乐.mp3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609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255034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送别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赠汪伦                                 送杜少府之任蜀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李白                                        王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李 白 乘 舟 将 欲 行，          城阙辅三秦，风烟望五津。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忽 闻 岸 上 踏 歌 声。           与君离别意，同是宦游人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220c"/>
                </a:solidFill>
                <a:latin typeface="Arial"/>
              </a:rPr>
              <a:t>桃 花 潭 水 深 千 尺，           海内存知己，天涯若比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220c"/>
                </a:solidFill>
                <a:latin typeface="Arial"/>
              </a:rPr>
              <a:t>不 及 汪 伦 送 我 情。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 无为在歧路，儿女共沾巾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666880" y="380880"/>
            <a:ext cx="6096240" cy="617220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828720" y="907920"/>
            <a:ext cx="583236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［王维简介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701--76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，字摩诘，唐朝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名诗人，世称“王右丞” ，和孟浩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并称“王孟”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作品特点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诗中有画，画中有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代表作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《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送元二使安西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》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鸟鸣涧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相思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》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九月九日忆山东兄弟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2004511155336581"/>
          <p:cNvPicPr/>
          <p:nvPr/>
        </p:nvPicPr>
        <p:blipFill>
          <a:blip r:embed="rId2"/>
          <a:stretch/>
        </p:blipFill>
        <p:spPr>
          <a:xfrm>
            <a:off x="6661080" y="1268280"/>
            <a:ext cx="18576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"/>
          <p:cNvSpPr/>
          <p:nvPr/>
        </p:nvSpPr>
        <p:spPr>
          <a:xfrm>
            <a:off x="611280" y="6453360"/>
            <a:ext cx="777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宋体"/>
              </a:rPr>
              <a:t>DNF</a:t>
            </a:r>
            <a:r>
              <a:rPr b="0" lang="zh-CN" sz="1000" spc="-1" strike="noStrike">
                <a:solidFill>
                  <a:srgbClr val="ffff00"/>
                </a:solidFill>
                <a:latin typeface="宋体"/>
              </a:rPr>
              <a:t>私服  </a:t>
            </a:r>
            <a:r>
              <a:rPr b="0" lang="en-US" sz="1000" spc="-1" strike="noStrike">
                <a:solidFill>
                  <a:srgbClr val="ffff00"/>
                </a:solidFill>
                <a:latin typeface="宋体"/>
              </a:rPr>
              <a:t>http://www.9jzg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267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-36360" y="6237360"/>
            <a:ext cx="9180360" cy="590400"/>
          </a:xfrm>
          <a:prstGeom prst="rect">
            <a:avLst/>
          </a:prstGeom>
          <a:ln w="0">
            <a:noFill/>
          </a:ln>
        </p:spPr>
      </p:pic>
      <p:sp>
        <p:nvSpPr>
          <p:cNvPr id="175" name="矩形 1"/>
          <p:cNvSpPr/>
          <p:nvPr/>
        </p:nvSpPr>
        <p:spPr>
          <a:xfrm>
            <a:off x="2286000" y="28908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2286000" y="28908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2286000" y="28908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2843280" y="549360"/>
            <a:ext cx="3529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送元二使安西 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348000" y="1773360"/>
            <a:ext cx="25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f0b71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6f0b71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6f0b71"/>
                </a:solidFill>
                <a:latin typeface="Arial"/>
              </a:rPr>
              <a:t>]   </a:t>
            </a:r>
            <a:r>
              <a:rPr b="1" lang="zh-CN" sz="3200" spc="-1" strike="noStrike">
                <a:solidFill>
                  <a:srgbClr val="6f0b71"/>
                </a:solidFill>
                <a:latin typeface="Arial"/>
              </a:rPr>
              <a:t>王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47840" y="2714760"/>
            <a:ext cx="441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渭城朝雨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浥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轻尘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客舍青青柳色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劝君更尽一杯酒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西出阳关无故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7164360" y="5734080"/>
            <a:ext cx="1368360" cy="5745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歌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444920" y="2286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836640"/>
            <a:ext cx="838224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仿宋_GB2312"/>
                <a:ea typeface="楷体_GB2312"/>
              </a:rPr>
              <a:t>朝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楷体_GB2312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早晨；日，天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0" lang="en-US" sz="4000" spc="-1" strike="noStrike">
                <a:solidFill>
                  <a:srgbClr val="007a77"/>
                </a:solidFill>
                <a:latin typeface="宋体"/>
              </a:rPr>
              <a:t>zhā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向着，面对着；拜见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0" lang="en-US" sz="4000" spc="-1" strike="noStrike">
                <a:solidFill>
                  <a:srgbClr val="007a77"/>
                </a:solidFill>
                <a:latin typeface="宋体"/>
              </a:rPr>
              <a:t>chá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9640" y="765000"/>
            <a:ext cx="815364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舍</a:t>
            </a:r>
            <a:r>
              <a:rPr b="1" lang="en-US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舍弃，丢弃；施舍。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sh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居住的房子；居住，休息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sh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16000" y="83664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22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自读诗句找出文中讲了哪些地点？说一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它们之间的联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403280" y="357336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配乐朗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当你静静地聆听的时候，你们看到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渭城的柳色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渭城的空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渭城的客舍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渭城的朋友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476360" y="1989000"/>
            <a:ext cx="6983280" cy="64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渭城     安西      阳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16000" y="2997360"/>
            <a:ext cx="73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22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想象诗中描写的情景，体会送行的环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3310a24fac04c234c088d1a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3646080" y="28954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全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0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公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187520" y="358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阳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797000" y="4114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渭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286000" y="281952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安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907280" y="765000"/>
            <a:ext cx="5362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安西：指唐代安西都护府，在今新疆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车附近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渭城：秦时咸阳城，汉改渭城，在长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西北，渭水北岸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阳关：在今甘肃省敦煌县西南，是古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通西域的要道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0:05:53Z</dcterms:created>
  <dc:creator/>
  <dc:description>淘课件网 http://www.taokejian.com</dc:description>
  <cp:keywords/>
  <dc:language>en-US</dc:language>
  <cp:lastModifiedBy>Administrator</cp:lastModifiedBy>
  <dcterms:modified xsi:type="dcterms:W3CDTF">2017-10-06T04:30:35Z</dcterms:modified>
  <cp:revision>61</cp:revision>
  <dc:subject/>
  <dc:title>淘课件网 http://www.tao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